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WHOOSH.WAV" ContentType="audio/x-wav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1.png" ContentType="image/png"/>
  <Override PartName="/ppt/media/image4.png" ContentType="image/png"/>
  <Override PartName="/ppt/media/image20.png" ContentType="image/png"/>
  <Override PartName="/ppt/media/image19.jpeg" ContentType="image/jpeg"/>
  <Override PartName="/ppt/media/CAMERA.WAV" ContentType="audio/x-wav"/>
  <Override PartName="/ppt/media/image1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974BA-3584-4DE6-A1BD-2814B9500D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is fast and efficient over short distances, but slow and inefficient as the cell becomes lar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A mitochondrion at the center of a cell with a diameter of 20 cm would have to wait months before receiving molecules that enter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cell’s size is doubled, the cell would require 8X more waste to excrete, but the surface area would only increase by a factor of 4.  The plasma membrane would not have enough surface area through which the nutrients and waste could diff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495B-E152-4AF5-AF1C-F82D4CAB3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6B23-60AF-4068-BADF-27E81BB4A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F836-07C9-46A3-9548-F1444B258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140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348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932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2140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348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FA66-549B-4E2F-A139-20CECB86A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F47A7-87DB-4170-829D-2AA973C3C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4E4D8-DA91-4A49-AAF3-544FF40A6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C9252-02D5-471A-9292-F6309606D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B6B6F-30CB-4ECC-B1FB-137F1BFD3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69247-0426-4652-AEC8-187D427A5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9320" y="129528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88A90-2837-4934-A894-C4B7C27B8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C75AF-0EB0-4F8D-8703-7ABEF467A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9CA1-D29A-4CDD-BB7D-E7C2676BD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8C896-387A-451E-BB30-7C22C615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28AB1-A486-4CC0-AAE8-6E904B91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7B876-E659-4319-94CC-AB3C7AC4A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26C8E-56E7-4B6A-851B-CF52BDD31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2140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2348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932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2140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2348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4E092-31BE-46A3-A366-8BC565F25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2C09-0181-4965-B248-FDC9914EF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6D2A-F22B-4AAF-AC26-8FDFB7CD9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3AC3-0B08-4F4F-B6F8-46D51F4A9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9320" y="129528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7856-4B91-48D3-88F7-D454D9E3C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25C8-9BBC-4548-903E-639EF9DC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9BFE-3ACC-459E-A7EC-86037DE4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AA59-2FAB-4CBE-A213-A2B5267D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64133-A833-4990-B103-9372671DFF3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2209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9552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94E16-F435-4E62-9E28-F7E8B18BAF1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hyperlink" Target="http://www.iknow.net/mov/cellcyclemov.shtml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2209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ellular Basis of Inheritanc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523880" y="350496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apter 9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hromosome Structur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1532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NA wraps around a histone core to form bead like structures known as nucleos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occurs during proph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tones – proteins that help DNA co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09480" y="3352680"/>
            <a:ext cx="716292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hromosome Structur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28600" y="1447920"/>
            <a:ext cx="4599000" cy="48765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1640" y="1219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nucleosomes coil even mo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ils become the chromos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smallest to most coiled is the follow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uble hel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NA and histone prote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er co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romos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entromer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720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half of a replicated chromosome is called a </a:t>
            </a:r>
            <a:r>
              <a:rPr b="0" lang="en-US" sz="2400" spc="-1" strike="noStrike">
                <a:solidFill>
                  <a:srgbClr val="6d6fc7"/>
                </a:solidFill>
                <a:latin typeface="Arial"/>
              </a:rPr>
              <a:t>chromat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ster chromatids: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2 identical halves of the double structure are sister chromatid; exact copies of each o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ome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site where sister chromatids are adjoi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419720" y="2362320"/>
            <a:ext cx="4495680" cy="2971800"/>
            <a:chOff x="4419720" y="2362320"/>
            <a:chExt cx="4495680" cy="2971800"/>
          </a:xfrm>
        </p:grpSpPr>
        <p:pic>
          <p:nvPicPr>
            <p:cNvPr id="139" name="" descr=""/>
            <p:cNvPicPr/>
            <p:nvPr/>
          </p:nvPicPr>
          <p:blipFill>
            <a:blip r:embed="rId2"/>
            <a:srcRect l="0" t="0" r="0" b="7134"/>
            <a:stretch/>
          </p:blipFill>
          <p:spPr>
            <a:xfrm>
              <a:off x="4419720" y="2362320"/>
              <a:ext cx="4495680" cy="29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 txBox="1"/>
            <p:nvPr/>
          </p:nvSpPr>
          <p:spPr>
            <a:xfrm>
              <a:off x="4419720" y="2362320"/>
              <a:ext cx="4495680" cy="29718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hromosome or chromatid?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160" y="4876560"/>
            <a:ext cx="3771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chromos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chromati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657240" y="4571640"/>
            <a:ext cx="6172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chromosome (doubl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 chromatids (sisterchromati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rcRect l="41667" t="7691" r="15487" b="0"/>
          <a:stretch/>
        </p:blipFill>
        <p:spPr>
          <a:xfrm>
            <a:off x="1447920" y="2286000"/>
            <a:ext cx="650880" cy="251784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2666880" y="2514600"/>
            <a:ext cx="1524240" cy="457200"/>
            <a:chOff x="2666880" y="2514600"/>
            <a:chExt cx="1524240" cy="457200"/>
          </a:xfrm>
        </p:grpSpPr>
        <p:sp>
          <p:nvSpPr>
            <p:cNvPr id="146" name=""/>
            <p:cNvSpPr/>
            <p:nvPr/>
          </p:nvSpPr>
          <p:spPr>
            <a:xfrm>
              <a:off x="2666880" y="2971800"/>
              <a:ext cx="1447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43200" y="25146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Replic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3733920" y="1295280"/>
            <a:ext cx="4799880" cy="3200040"/>
            <a:chOff x="3733920" y="1295280"/>
            <a:chExt cx="4799880" cy="3200040"/>
          </a:xfrm>
        </p:grpSpPr>
        <p:pic>
          <p:nvPicPr>
            <p:cNvPr id="149" name="" descr=""/>
            <p:cNvPicPr/>
            <p:nvPr/>
          </p:nvPicPr>
          <p:blipFill>
            <a:blip r:embed="rId3"/>
            <a:srcRect l="0" t="23082" r="0" b="0"/>
            <a:stretch/>
          </p:blipFill>
          <p:spPr>
            <a:xfrm>
              <a:off x="4452120" y="2138040"/>
              <a:ext cx="4081680" cy="23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3733920" y="1295280"/>
              <a:ext cx="1558080" cy="91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Mitosis and Meiosis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and Why Cells Div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Onion roo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1957320" y="1523880"/>
            <a:ext cx="45957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4419720" y="1600200"/>
            <a:ext cx="4419360" cy="4210200"/>
            <a:chOff x="4419720" y="1600200"/>
            <a:chExt cx="4419360" cy="4210200"/>
          </a:xfrm>
        </p:grpSpPr>
        <p:pic>
          <p:nvPicPr>
            <p:cNvPr id="156" name="" descr=""/>
            <p:cNvPicPr/>
            <p:nvPr/>
          </p:nvPicPr>
          <p:blipFill>
            <a:blip r:embed="rId2"/>
            <a:srcRect l="0" t="-445" r="43644" b="0"/>
            <a:stretch/>
          </p:blipFill>
          <p:spPr>
            <a:xfrm>
              <a:off x="4419720" y="1600200"/>
              <a:ext cx="4419360" cy="421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 txBox="1"/>
            <p:nvPr/>
          </p:nvSpPr>
          <p:spPr>
            <a:xfrm>
              <a:off x="4419720" y="1600200"/>
              <a:ext cx="4419360" cy="42102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Interphas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37717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hase= Growth ph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 phase = synthesis phase – make copy of D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ase – Growth and cell maintenance for preparation of division occur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for example copying organel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/>
          <a:srcRect l="0" t="-445" r="43644" b="0"/>
          <a:stretch/>
        </p:blipFill>
        <p:spPr>
          <a:xfrm>
            <a:off x="4419720" y="1600200"/>
            <a:ext cx="4419360" cy="42102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Interphas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72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 replication occ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ll maintenance occur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ke AT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rete was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ke prote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duce new organel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200400" y="2117880"/>
            <a:ext cx="5715000" cy="474012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69608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Prophas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3809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mati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ils up into visible chromos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ells come from other cells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a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w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ro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exual Reproduc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xual Rep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Prophas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240" y="228564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entriol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egin to migrate to opposite sides of the c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cleus begins to dissappear as nuclear envelope and nucleolus disinteg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267080" y="1998720"/>
            <a:ext cx="487692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2743200" y="2106720"/>
            <a:ext cx="6400800" cy="45050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Prophase 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indle fibe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form between centrio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And attach to chromos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495680" y="2300400"/>
            <a:ext cx="4343400" cy="42177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Metaphas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3772080" cy="35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romosomes line up at the center of the c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long the equator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shortest phas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Anaphas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09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romatids split and one is pulled to each of the poles; centromere fir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chromatid is identi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copy of each chromosome goes to each side (po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5216400" y="2286000"/>
            <a:ext cx="3525840" cy="39625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5562720" y="2286000"/>
            <a:ext cx="2666880" cy="3505320"/>
          </a:xfrm>
          <a:custGeom>
            <a:avLst/>
            <a:gdLst/>
            <a:ahLst/>
            <a:rect l="l" t="t" r="r" b="b"/>
            <a:pathLst>
              <a:path w="1680" h="2208">
                <a:moveTo>
                  <a:pt x="144" y="0"/>
                </a:moveTo>
                <a:lnTo>
                  <a:pt x="1632" y="144"/>
                </a:lnTo>
                <a:lnTo>
                  <a:pt x="1680" y="2208"/>
                </a:lnTo>
                <a:lnTo>
                  <a:pt x="0" y="2112"/>
                </a:lnTo>
                <a:lnTo>
                  <a:pt x="144" y="0"/>
                </a:lnTo>
                <a:close/>
              </a:path>
            </a:pathLst>
          </a:custGeom>
          <a:noFill/>
          <a:ln w="57240">
            <a:solidFill>
              <a:srgbClr val="005ea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Telophas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772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al phase of mito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romatids reach opposite ends of the c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posite events of prophas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romosomes unwind into chromat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indle breaks do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uclear envelope forms around 2 new sets of chromosomes (to create 2 new nucle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ucleolus forms in each nucle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ytokinesis begins (before telophase is finish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5322960" y="2286000"/>
            <a:ext cx="34099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End of Mitosis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2949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clei go back into interph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ytokinesis beg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rcRect l="0" t="0" r="0" b="29172"/>
          <a:stretch/>
        </p:blipFill>
        <p:spPr>
          <a:xfrm>
            <a:off x="1066680" y="2590920"/>
            <a:ext cx="655344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696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 Black"/>
              </a:rPr>
              <a:t>Cytokinesis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-360" y="68580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imal Cel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m Cleavage Furrow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mbrane pinches off and half of the cell contents go to each new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aught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nt Cell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ms Cell Pla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ause plants have a rigid cell wall, the plasma membrane does not pinch in; a cell plate forms across the equ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0" t="0" r="0" b="5261"/>
          <a:stretch/>
        </p:blipFill>
        <p:spPr>
          <a:xfrm>
            <a:off x="7459560" y="4572000"/>
            <a:ext cx="1684440" cy="19810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rcRect l="0" t="0" r="0" b="5179"/>
          <a:stretch/>
        </p:blipFill>
        <p:spPr>
          <a:xfrm>
            <a:off x="5257800" y="4419720"/>
            <a:ext cx="2219400" cy="24382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rcRect l="0" t="0" r="48840" b="7580"/>
          <a:stretch/>
        </p:blipFill>
        <p:spPr>
          <a:xfrm>
            <a:off x="6019920" y="304920"/>
            <a:ext cx="2363760" cy="36576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rcRect l="58140" t="12634" r="4650" b="45477"/>
          <a:stretch/>
        </p:blipFill>
        <p:spPr>
          <a:xfrm>
            <a:off x="3809880" y="4191120"/>
            <a:ext cx="1366920" cy="14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45720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When do cells divide?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6960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owth of a multicellular organism - due to increase in # of cells, not size of cell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iving things grow by producing more cells, not cells getting bigger same size now as baby, size or organism depends on number of cel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ell division enables multicellular organisims to grow and develop from a single fertilized egg – one single cell can divide to form a multicellular huma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ells can grow a little bit ex fat cells don’t divide once reach puberty –but can grow much larg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even if not growing in size still produce new cells to replace o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ell division even when fully grown to renew and repair cells or replace old  that die of wear and tear or accidents ex bone marrow supplys new blood cell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Red blood cells only live 120 days 2.5 million new must be made/second?, but must be controlled growth (or canc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 Cells that line the digestive system organs – go through entire cell cycle in 6 hou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Sexual Reproduction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tic Material comes from 2 par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Asexual Reproduction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tic Material comes from 1 pa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d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o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ag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r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809880" y="3733920"/>
            <a:ext cx="685800" cy="9144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343400" y="3733920"/>
            <a:ext cx="685800" cy="9144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14800" y="3962520"/>
            <a:ext cx="685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8380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 Black"/>
              </a:rPr>
              <a:t>Binary Fission (Prokaryotes way of Asexual Reproduction)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20570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 division in prokaryotes produce 2 identical daughter ce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3124080"/>
            <a:ext cx="1143000" cy="6098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3276720"/>
            <a:ext cx="15264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3581280"/>
            <a:ext cx="9144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5105520" y="5029200"/>
            <a:ext cx="1143000" cy="609480"/>
            <a:chOff x="5105520" y="5029200"/>
            <a:chExt cx="1143000" cy="609480"/>
          </a:xfrm>
        </p:grpSpPr>
        <p:sp>
          <p:nvSpPr>
            <p:cNvPr id="106" name=""/>
            <p:cNvSpPr/>
            <p:nvPr/>
          </p:nvSpPr>
          <p:spPr>
            <a:xfrm>
              <a:off x="5105520" y="5029200"/>
              <a:ext cx="1143000" cy="6094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562720" y="5181480"/>
              <a:ext cx="152280" cy="1526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6400800" y="5029200"/>
            <a:ext cx="1143000" cy="609480"/>
            <a:chOff x="6400800" y="5029200"/>
            <a:chExt cx="1143000" cy="609480"/>
          </a:xfrm>
        </p:grpSpPr>
        <p:sp>
          <p:nvSpPr>
            <p:cNvPr id="109" name=""/>
            <p:cNvSpPr/>
            <p:nvPr/>
          </p:nvSpPr>
          <p:spPr>
            <a:xfrm>
              <a:off x="6400800" y="5029200"/>
              <a:ext cx="1143000" cy="6094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858000" y="5181480"/>
              <a:ext cx="152280" cy="1526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638680" y="4495680"/>
            <a:ext cx="6858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267080" y="4114800"/>
            <a:ext cx="304920" cy="152280"/>
            <a:chOff x="4267080" y="4114800"/>
            <a:chExt cx="304920" cy="152280"/>
          </a:xfrm>
        </p:grpSpPr>
        <p:sp>
          <p:nvSpPr>
            <p:cNvPr id="113" name=""/>
            <p:cNvSpPr/>
            <p:nvPr/>
          </p:nvSpPr>
          <p:spPr>
            <a:xfrm>
              <a:off x="4419720" y="4114800"/>
              <a:ext cx="152280" cy="15228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267080" y="4114800"/>
              <a:ext cx="152640" cy="15228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The Cell Cycl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8960" y="2285640"/>
            <a:ext cx="37717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quence of growth and division of a c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phase = period of grow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tosis = period of nuclear divi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ytokinesis = period of cell divi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143680" y="2577960"/>
            <a:ext cx="3771720" cy="33782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172200" y="62485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Cell Cycle Mov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Limits on Cell Siz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usion – becomes slow and inefficient as the cell becomes lar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face Area/Volume Ratio – as a cell increases, its volume increases faster than its surface ar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NA content – if a cell doesn’t have enough DNA to program its metabolism, it cannot surv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hromosome Structur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876560" y="1066320"/>
            <a:ext cx="3809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Arial"/>
              </a:rPr>
              <a:t>Chromati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Uncondensed fo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tic material spends most of its time as chromat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ring prophase, the chromatin material coils up and condenses to become a </a:t>
            </a:r>
            <a:r>
              <a:rPr b="0" lang="en-US" sz="2800" spc="-1" strike="noStrike">
                <a:solidFill>
                  <a:srgbClr val="66ccff"/>
                </a:solidFill>
                <a:latin typeface="Arial"/>
              </a:rPr>
              <a:t>chromoso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coiled form of DN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228600" y="1447920"/>
            <a:ext cx="4724280" cy="48765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1218960" y="2285640"/>
            <a:ext cx="37717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4572000" cy="44452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hromosome Structur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288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romosomes -condensed rod shaped structures made of coiled DNA, (only seen in mitosis phas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3T14:20:43Z</dcterms:created>
  <dc:creator>Tricia</dc:creator>
  <dc:description/>
  <cp:keywords/>
  <dc:language>en-US</dc:language>
  <cp:lastModifiedBy>Tricia</cp:lastModifiedBy>
  <dcterms:modified xsi:type="dcterms:W3CDTF">2007-01-25T14:13:06Z</dcterms:modified>
  <cp:revision>3</cp:revision>
  <dc:subject/>
  <dc:title>Cellular Basis of Inheritan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91033</vt:lpwstr>
  </property>
</Properties>
</file>